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1486-CC51-4021-8292-38F02E138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copies (Completed in Lab Gro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BEC7-3676-42EA-9B68-D1AC48246C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2B4-DC4C-4BB1-87BE-EF69EBCB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9A4-1D82-4EF7-A91C-5C1080CE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9D9-260C-491A-B3FE-1965E273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09F-4D22-4B0B-82E5-85ED0D2D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9EB-51A4-490E-B0D5-BCF79BF7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087-181F-46EB-A98C-090AC30B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2D7-99FC-4237-8712-A4E4C5EF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D77-4469-4D53-AC22-7D64D66E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E09-8580-4969-96B7-DFA98349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875-A2C2-4DBF-B798-B43CB524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9B0-6165-4910-B8A8-F14F7FA0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963-9DB9-433E-85FF-6ED8524F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F6C7-898E-4955-8E96-24D1C5164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ur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525780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25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5562720" cy="4418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55627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the brightness of each light bulb compare to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happen if one of the light bulbs burns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ation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952880"/>
            <a:ext cx="9144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the brightness of each light bulb compare to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happen if bulb A burns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happen if bulbs B or C burn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f bulbs B and C burn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095880" cy="3894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905360" y="394488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222552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316692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simple series, parallel, and combination circu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9-volt or hand crank generators to power your circuits (BE CAREFUL WITH THESE AND DON’T CRANK TOO H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chemical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energy transformation occurs in electrochemical cel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the 3 parts of a ce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the two types of cells we made and how were they differ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formed when 2 or more cells are connected in ser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dry cell (penny cell) batteries and test the current created with the digital volt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wet cell batteries and test the current with the digital volt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if you can create enough current to power the digital 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at is an electromagne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at is the principle behind the creation of electromagnets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at is the difference between a permanent magnet and an electromagne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at are the variables which can change the strength of an electromagne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with the discovery of electromagnetism by seeing how the compass needle moves when you crank the hand generator to create electric cur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electromagnets using the nails and wires provided and test their str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with variables using the  already created electromagnets… (PLEASE DO NOT TAKE THESE APAR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31752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mpare and Contrast Permanent Magnets and Electromagnet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15000" y="3952800"/>
            <a:ext cx="2895480" cy="2714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2590560" cy="2573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267080" y="5029200"/>
            <a:ext cx="5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s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371600"/>
            <a:ext cx="6095880" cy="548640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1295280"/>
            <a:ext cx="6172200" cy="556272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8080" y="3808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ermanent mag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762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Electromag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3623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0481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7150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6400800"/>
            <a:ext cx="6324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6668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3526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0384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76320" y="4724280"/>
            <a:ext cx="922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4100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60958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                                                         Date:                       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371600"/>
            <a:ext cx="6095880" cy="5486400"/>
          </a:xfrm>
          <a:prstGeom prst="ellipse">
            <a:avLst/>
          </a:prstGeom>
          <a:noFill/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1295280"/>
            <a:ext cx="6172200" cy="5562720"/>
          </a:xfrm>
          <a:prstGeom prst="ellipse">
            <a:avLst/>
          </a:prstGeom>
          <a:noFill/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286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Permanent mag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685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Electromag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                                                         Date:                        Peri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47920"/>
            <a:ext cx="365760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nnot turn them 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et weaker over time or if dro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nnot change their p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rth is a permanent mag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ed no outside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ere discovered over 2,000 years 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re found in nature or man-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use bio &amp; geo magnet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1447920"/>
            <a:ext cx="31240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n turn them 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n make them very str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n change their p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ange electrical energy into motion in motors and sound in speak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ed electrical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ere invented in 18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re man-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600200"/>
            <a:ext cx="2514600" cy="69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oth have magnetic lines of force in an invisible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oth have poles (N &amp; S) and can be used to make a comp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oth attract and rep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oth can make temporary magnets from iron, nickel, cobalt, neodymium, samar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772400" y="198360"/>
            <a:ext cx="1518840" cy="987120"/>
            <a:chOff x="7772400" y="198360"/>
            <a:chExt cx="1518840" cy="987120"/>
          </a:xfrm>
        </p:grpSpPr>
        <p:sp>
          <p:nvSpPr>
            <p:cNvPr id="117" name=""/>
            <p:cNvSpPr/>
            <p:nvPr/>
          </p:nvSpPr>
          <p:spPr>
            <a:xfrm>
              <a:off x="7772400" y="228600"/>
              <a:ext cx="44604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95240" y="368280"/>
              <a:ext cx="0" cy="698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7816320" y="423360"/>
              <a:ext cx="3682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129160" y="982800"/>
              <a:ext cx="80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 rot="8409600">
              <a:off x="8454240" y="336600"/>
              <a:ext cx="689040" cy="71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 flipV="1">
              <a:off x="8129160" y="417240"/>
              <a:ext cx="55440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7080" y="457200"/>
            <a:ext cx="1143000" cy="11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Station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ty and Magnetism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 vs. Permanent Magnets Ven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magnet Review Worksheet (Group Challe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s 11-15 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for Quiz 3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me what you learned toda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324480" y="0"/>
            <a:ext cx="2819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s: 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4480" y="76320"/>
            <a:ext cx="6210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lectromagnetism Group Challen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2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w an electromagnet in the space bel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320" y="1066680"/>
            <a:ext cx="3962160" cy="23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066680"/>
            <a:ext cx="419076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5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w a line connecting each part of an electromagnet below to the corresponding part in your dia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ducting W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en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rromagnetic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581280"/>
            <a:ext cx="914400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6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magnets work because electric current creates a magnetic fi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7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manent magnets are more useful than electromagnets because they are always on and don’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require an energy sour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8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electromagnet can be strengthened by adding more loops, more current, or a strong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ferromagnetic c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9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orth and south pole of an electromagnet can be rever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10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gnetic field lines for an electromagnet look similar to the field lines of a single bar mag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324480" y="0"/>
            <a:ext cx="2819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: 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: 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480" y="76320"/>
            <a:ext cx="6210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lectromagnetism Group Challen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2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w an electromagnet in the space bel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1066680"/>
            <a:ext cx="3962160" cy="23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798480"/>
            <a:ext cx="419076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5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w a line connecting each part of an electromagnet below to the corresponding part in your dia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ducting W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en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rromagnetic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581280"/>
            <a:ext cx="914400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6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magnets work because electric current creates a magnetic fi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7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manent magnets are more useful than electromagnets because they are always on and don’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require an energy sour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8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electromagnet can be strengthened by adding more loops, more current, or a strong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ferromagnetic c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9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orth and south pole of an electromagnet can be rever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10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gnetic field lines for an electromagnet look similar to the field lines of a single bar mag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600200"/>
            <a:ext cx="685800" cy="1295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743200" y="1600200"/>
            <a:ext cx="533520" cy="1447920"/>
            <a:chOff x="2743200" y="1600200"/>
            <a:chExt cx="533520" cy="1447920"/>
          </a:xfrm>
        </p:grpSpPr>
        <p:sp>
          <p:nvSpPr>
            <p:cNvPr id="138" name=""/>
            <p:cNvSpPr/>
            <p:nvPr/>
          </p:nvSpPr>
          <p:spPr>
            <a:xfrm rot="10800000">
              <a:off x="2895120" y="1676520"/>
              <a:ext cx="228600" cy="1371600"/>
            </a:xfrm>
            <a:prstGeom prst="triangle">
              <a:avLst>
                <a:gd name="adj" fmla="val 4791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43200" y="1600200"/>
              <a:ext cx="533520" cy="152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0" name=""/>
          <p:cNvCxnSpPr>
            <a:stCxn id="136" idx="1"/>
            <a:endCxn id="139" idx="0"/>
          </p:cNvCxnSpPr>
          <p:nvPr/>
        </p:nvCxnSpPr>
        <p:spPr>
          <a:xfrm flipH="1" rot="16200000">
            <a:off x="1866240" y="45756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8" idx="0"/>
            <a:endCxn id="136" idx="3"/>
          </p:cNvCxnSpPr>
          <p:nvPr/>
        </p:nvCxnSpPr>
        <p:spPr>
          <a:xfrm flipV="1" rot="16200000">
            <a:off x="1792440" y="1825920"/>
            <a:ext cx="153360" cy="229140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2819520" y="1600200"/>
            <a:ext cx="380880" cy="838080"/>
          </a:xfrm>
          <a:custGeom>
            <a:avLst/>
            <a:gdLst/>
            <a:ahLst/>
            <a:rect l="l" t="t" r="r" b="b"/>
            <a:pathLst>
              <a:path w="240" h="912">
                <a:moveTo>
                  <a:pt x="144" y="0"/>
                </a:moveTo>
                <a:cubicBezTo>
                  <a:pt x="176" y="80"/>
                  <a:pt x="208" y="160"/>
                  <a:pt x="192" y="192"/>
                </a:cubicBezTo>
                <a:cubicBezTo>
                  <a:pt x="176" y="224"/>
                  <a:pt x="40" y="168"/>
                  <a:pt x="48" y="192"/>
                </a:cubicBezTo>
                <a:cubicBezTo>
                  <a:pt x="56" y="216"/>
                  <a:pt x="240" y="304"/>
                  <a:pt x="240" y="336"/>
                </a:cubicBezTo>
                <a:cubicBezTo>
                  <a:pt x="240" y="368"/>
                  <a:pt x="48" y="360"/>
                  <a:pt x="48" y="384"/>
                </a:cubicBezTo>
                <a:cubicBezTo>
                  <a:pt x="48" y="408"/>
                  <a:pt x="240" y="448"/>
                  <a:pt x="240" y="480"/>
                </a:cubicBezTo>
                <a:cubicBezTo>
                  <a:pt x="240" y="512"/>
                  <a:pt x="56" y="560"/>
                  <a:pt x="48" y="576"/>
                </a:cubicBezTo>
                <a:cubicBezTo>
                  <a:pt x="40" y="592"/>
                  <a:pt x="200" y="560"/>
                  <a:pt x="192" y="576"/>
                </a:cubicBezTo>
                <a:cubicBezTo>
                  <a:pt x="184" y="592"/>
                  <a:pt x="0" y="648"/>
                  <a:pt x="0" y="672"/>
                </a:cubicBezTo>
                <a:cubicBezTo>
                  <a:pt x="0" y="696"/>
                  <a:pt x="184" y="704"/>
                  <a:pt x="192" y="720"/>
                </a:cubicBezTo>
                <a:cubicBezTo>
                  <a:pt x="200" y="736"/>
                  <a:pt x="48" y="752"/>
                  <a:pt x="48" y="768"/>
                </a:cubicBezTo>
                <a:cubicBezTo>
                  <a:pt x="48" y="784"/>
                  <a:pt x="184" y="792"/>
                  <a:pt x="192" y="816"/>
                </a:cubicBezTo>
                <a:cubicBezTo>
                  <a:pt x="200" y="840"/>
                  <a:pt x="112" y="896"/>
                  <a:pt x="96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286000"/>
            <a:ext cx="380880" cy="838080"/>
          </a:xfrm>
          <a:custGeom>
            <a:avLst/>
            <a:gdLst/>
            <a:ahLst/>
            <a:rect l="l" t="t" r="r" b="b"/>
            <a:pathLst>
              <a:path w="240" h="912">
                <a:moveTo>
                  <a:pt x="144" y="0"/>
                </a:moveTo>
                <a:cubicBezTo>
                  <a:pt x="176" y="80"/>
                  <a:pt x="208" y="160"/>
                  <a:pt x="192" y="192"/>
                </a:cubicBezTo>
                <a:cubicBezTo>
                  <a:pt x="176" y="224"/>
                  <a:pt x="40" y="168"/>
                  <a:pt x="48" y="192"/>
                </a:cubicBezTo>
                <a:cubicBezTo>
                  <a:pt x="56" y="216"/>
                  <a:pt x="240" y="304"/>
                  <a:pt x="240" y="336"/>
                </a:cubicBezTo>
                <a:cubicBezTo>
                  <a:pt x="240" y="368"/>
                  <a:pt x="48" y="360"/>
                  <a:pt x="48" y="384"/>
                </a:cubicBezTo>
                <a:cubicBezTo>
                  <a:pt x="48" y="408"/>
                  <a:pt x="240" y="448"/>
                  <a:pt x="240" y="480"/>
                </a:cubicBezTo>
                <a:cubicBezTo>
                  <a:pt x="240" y="512"/>
                  <a:pt x="56" y="560"/>
                  <a:pt x="48" y="576"/>
                </a:cubicBezTo>
                <a:cubicBezTo>
                  <a:pt x="40" y="592"/>
                  <a:pt x="200" y="560"/>
                  <a:pt x="192" y="576"/>
                </a:cubicBezTo>
                <a:cubicBezTo>
                  <a:pt x="184" y="592"/>
                  <a:pt x="0" y="648"/>
                  <a:pt x="0" y="672"/>
                </a:cubicBezTo>
                <a:cubicBezTo>
                  <a:pt x="0" y="696"/>
                  <a:pt x="184" y="704"/>
                  <a:pt x="192" y="720"/>
                </a:cubicBezTo>
                <a:cubicBezTo>
                  <a:pt x="200" y="736"/>
                  <a:pt x="48" y="752"/>
                  <a:pt x="48" y="768"/>
                </a:cubicBezTo>
                <a:cubicBezTo>
                  <a:pt x="48" y="784"/>
                  <a:pt x="184" y="792"/>
                  <a:pt x="192" y="816"/>
                </a:cubicBezTo>
                <a:cubicBezTo>
                  <a:pt x="200" y="840"/>
                  <a:pt x="112" y="896"/>
                  <a:pt x="96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2280" y="3657600"/>
            <a:ext cx="84780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280" y="4157640"/>
            <a:ext cx="84780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l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2280" y="4800600"/>
            <a:ext cx="84780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5562720"/>
            <a:ext cx="847800" cy="4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52280" y="6215040"/>
            <a:ext cx="84780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440" y="1400400"/>
            <a:ext cx="8686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DUE FRI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Ste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Questions 11-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iz 3 – Electricity &amp; Magne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A3745DD6-8194-48CA-BB65-4AA4C69776FA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Explain the important understandings related to electricity and magnetism covered during the last 3 weeks of lessons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ne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is magnetism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are magnetic field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are magnetic pol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are magnetic domai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magnetic fields using oiled filled plastic with iron fil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how magnetic poles inter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 with magnetic levi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where the magnetism is strongest by picking up paper clips with various magn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What is static electricity?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What happens when static charges interact?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 the plastic surface of the box full of “pith balls” by rubbing with fur or felt and see what happ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 the balloon and use it to cause the aluminum can to roll across the floor in static electricity r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is required to create a simple circu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is the difference between series and parallel circuit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5627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the brightness of each light bulb compare to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happen if one of the light bulbs burns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95324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21:14:36Z</dcterms:created>
  <dc:creator>CCPS</dc:creator>
  <dc:description/>
  <dc:language>en-US</dc:language>
  <cp:lastModifiedBy>CCPS</cp:lastModifiedBy>
  <dcterms:modified xsi:type="dcterms:W3CDTF">2010-03-24T21:14:51Z</dcterms:modified>
  <cp:revision>1</cp:revision>
  <dc:subject/>
  <dc:title>Slide 1</dc:title>
</cp:coreProperties>
</file>